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0019EB-349D-4DE4-A746-4936B649C5A4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A70AAB-51B8-4A54-9E4A-6CBC7D026D4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33111A-1CB6-402B-8215-E53F7EA9674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4579EB-6E0E-4A55-9599-8A9C87D5A0F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924193-5D82-45AE-AC23-BB181A44A9E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052183-E1C8-484B-807F-00151DF08FA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96E8C5-F473-4960-9729-CAC74ABFD39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F53BDE-2C64-4838-B358-4D48F0521174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2C7576-EC7F-41C5-AA6F-A1FED92A63B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54B998-95FE-4B82-80AC-DEF847BFC32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A16240-8433-4831-95DA-D8176F5690A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49EEE4-F7AA-42EA-ACB7-0AF6505BD2B6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62D4C-312E-47B5-B030-2F61E713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BDAE9-C440-449F-BD79-C34E2188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5D758-DF0C-4006-9623-1F3D71C4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6E495-99EE-4572-BA1F-664D0BB7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24C2-24DE-4E8D-A228-4692E52C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24DF-C1F3-4AC8-B4C7-AAD7F4CB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085F-B492-4ED8-9C5B-C69C96BE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9073-046D-4EDE-8530-EBB46903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9ABF-218D-4F31-A21C-85941D1A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54CF-CD8C-491F-B4EF-846B7D5F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F7CF-02F9-493B-89FA-43E36B4D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C5382-2AD3-429B-B9D2-DAD3A3FB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B2BE-489B-4456-A057-E34E6750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2DD6-B3E5-4B20-8545-1ADD90B7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2437-7D6E-4C2D-9E0C-9BD21AE8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AC0B-3748-4B43-A146-228A862D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9C28-03E1-4CA1-A477-3FE8FF99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E98C9-88F7-4063-9BC7-9412F398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8067C-2533-42E1-B68B-E8898D18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A358-6DD3-434C-B7E7-F40D2CCC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FF508-45B5-496C-A31E-CCB4C4E7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AFEB-B3E9-40B3-94F2-0E37EA2E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1918-95EB-431A-961F-F7F44F52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2842A-CA3E-4CBD-8B12-3D20BD2A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C889-2E0E-420D-9769-B54D3033F774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aea9a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c302a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ae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ae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9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ae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c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9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9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9646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c302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9646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c30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aea9a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c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96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ae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ae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c3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96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ae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c3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96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ae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96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9646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c302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9646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c30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A39D-5274-4BB5-BC78-09F2AB589439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mmigrationfrancophone.ca/" TargetMode="External"/><Relationship Id="rId2" Type="http://schemas.openxmlformats.org/officeDocument/2006/relationships/hyperlink" Target="http://www.immigrationfrancophone.ca/" TargetMode="External"/><Relationship Id="rId3" Type="http://schemas.openxmlformats.org/officeDocument/2006/relationships/hyperlink" Target="http://www.immigrationfrancophone.ca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ntrée express – en attente d’une lentille franco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Colloque de perfectionnement professionnel d’OCASI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Marjie Brown, gestionnaire – Immigration, FCF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Toronto, 3 novembr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fcfa"/>
          <p:cNvPicPr/>
          <p:nvPr/>
        </p:nvPicPr>
        <p:blipFill>
          <a:blip r:embed="rId1"/>
          <a:stretch/>
        </p:blipFill>
        <p:spPr>
          <a:xfrm>
            <a:off x="3132000" y="115920"/>
            <a:ext cx="1241640" cy="151128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0E5E-7441-4A9B-AA19-62E20D152412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528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ien n’indique qu’Entrée express pourrait être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lution pour les communautés francophones et acadien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s’agit plutôt d’un outil conçu pour la majorité, qui ne répond pas aux réalités spécifiques de la minorité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besoins en matière d’immigration francophone demeurent urgents et cria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nouvelles occasions à saisir avec les gouvernements fédéral, provinciaux et territoria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ction, action, action…en collaboration avec tous les parte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9ADB-F9CB-4CE5-993B-DA11096237EB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86040" y="1828800"/>
            <a:ext cx="62056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Questions -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427280" y="4292640"/>
            <a:ext cx="47163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663300"/>
                </a:solidFill>
                <a:uFillTx/>
                <a:latin typeface="Arial"/>
                <a:hlinkClick r:id="rId1"/>
              </a:rPr>
              <a:t>m.brown@fcfa.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663300"/>
                </a:solidFill>
                <a:uFillTx/>
                <a:latin typeface="Arial"/>
                <a:hlinkClick r:id="rId2"/>
              </a:rPr>
              <a:t>www.immigrationfrancophone.ca</a:t>
            </a:r>
            <a:r>
              <a:rPr b="0" lang="fr-CA" sz="2000" spc="-1" strike="noStrike" u="sng">
                <a:solidFill>
                  <a:srgbClr val="663300"/>
                </a:solidFill>
                <a:uFillTx/>
                <a:latin typeface="Arial"/>
                <a:hlinkClick r:id="rId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70c0"/>
                </a:solidFill>
                <a:latin typeface="Arial"/>
              </a:rPr>
              <a:t>www.facebook.com/immfrancophon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70c0"/>
                </a:solidFill>
                <a:latin typeface="Arial"/>
              </a:rPr>
              <a:t>@FCFAim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Image Preview"/>
          <p:cNvPicPr/>
          <p:nvPr/>
        </p:nvPicPr>
        <p:blipFill>
          <a:blip r:embed="rId4"/>
          <a:stretch/>
        </p:blipFill>
        <p:spPr>
          <a:xfrm>
            <a:off x="3708360" y="5084640"/>
            <a:ext cx="515880" cy="517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Image Preview"/>
          <p:cNvPicPr/>
          <p:nvPr/>
        </p:nvPicPr>
        <p:blipFill>
          <a:blip r:embed="rId5"/>
          <a:stretch/>
        </p:blipFill>
        <p:spPr>
          <a:xfrm>
            <a:off x="3780000" y="5732640"/>
            <a:ext cx="458640" cy="45072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77A9-8DEC-4351-B344-0E5F4F844DFC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6"/>
          <p:cNvSpPr/>
          <p:nvPr/>
        </p:nvSpPr>
        <p:spPr>
          <a:xfrm>
            <a:off x="0" y="4292640"/>
            <a:ext cx="4356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Coor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Portail de l’immigration franco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7120" y="457200"/>
            <a:ext cx="8329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ontexte 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628280"/>
            <a:ext cx="8362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4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mmigration francophone – un enjeu prioritaire pour les communautés francophones et acadien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9112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Moteur de la croissance démograph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9112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Outil de développ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9112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Francophonie diversifiée et inclu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911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4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Or, les communautés ne reçoivent pas leur juste part d’immigr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9112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Plus de 98 % d’immigrants d’expression anglaise comparativement à moins de 2 % d’immigrants d’expression frança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2734-0791-40DC-B69A-9766F5A2F4A3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adre législatif et poli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9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Objectifs de la </a:t>
            </a:r>
            <a:r>
              <a:rPr b="0" i="1" lang="fr-CA" sz="2200" spc="-1" strike="noStrike">
                <a:solidFill>
                  <a:srgbClr val="000000"/>
                </a:solidFill>
                <a:latin typeface="Arial"/>
              </a:rPr>
              <a:t>Loi sur l’immigration et la protection des réfugiés 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(2002), article 3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0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b) D’enrichir et de renforcer le tissu social et culturel du Canada dans le respect de son caractère fédéral, bilingue et multiculture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0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b.1) de favoriser le développement des collectivités de langues officielles minoritaires au Ca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Premier objectif du </a:t>
            </a:r>
            <a:r>
              <a:rPr b="0" i="1" lang="fr-CA" sz="2200" spc="-1" strike="noStrike">
                <a:solidFill>
                  <a:srgbClr val="000000"/>
                </a:solidFill>
                <a:latin typeface="Arial"/>
              </a:rPr>
              <a:t>Cadre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2003) et du </a:t>
            </a:r>
            <a:r>
              <a:rPr b="0" i="1" lang="fr-CA" sz="2200" spc="-1" strike="noStrike">
                <a:solidFill>
                  <a:srgbClr val="000000"/>
                </a:solidFill>
                <a:latin typeface="Arial"/>
              </a:rPr>
              <a:t>Plan stratégique pour favoriser l’immigration au sein des communautés francophones en situation minoritaire (2006)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0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Accroître le nombre d’immigrants francophones pour atteindre une cible annuelle d’au moins 4,4 % d’immigrants d’expression française d’ici 202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7c302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E3B0-B013-488C-AAA1-2898E3A58182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adre législatif et poli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70028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Selon l’article 41 de la </a:t>
            </a:r>
            <a:r>
              <a:rPr b="0" i="1" lang="fr-CA" sz="2600" spc="-1" strike="noStrike">
                <a:solidFill>
                  <a:srgbClr val="000000"/>
                </a:solidFill>
                <a:latin typeface="Arial"/>
              </a:rPr>
              <a:t>Loi sur les langues officielles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5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Le gouvernement fédéral </a:t>
            </a:r>
            <a:r>
              <a:rPr b="0" lang="fr-CA" sz="1800" spc="-1" strike="noStrike" u="sng">
                <a:solidFill>
                  <a:srgbClr val="000000"/>
                </a:solidFill>
                <a:uFillTx/>
                <a:latin typeface="Arial"/>
              </a:rPr>
              <a:t>s’engage à favoriser l’épanouissement des minorités francophones et anglophones du Canada et à appuyer leur développement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, ainsi qu’à promouvoir la pleine reconnaissance et l’usage du français et de l’anglais dans la société canadien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5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000000"/>
                </a:solidFill>
                <a:uFillTx/>
                <a:latin typeface="Arial"/>
              </a:rPr>
              <a:t>Il incombe aux institutions fédérales de veiller à ce que soient prises des mesures positives pour mettre en œuvre cet engagement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. Il demeure entendu que cette mise en œuvre se fait dans le respect des champs de compétence et des pouvoirs des provi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2CC8-199E-41FD-B30C-2F624C34C39A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Nombre d’immigrants d’expression frança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9640" y="1916280"/>
          <a:ext cx="8136000" cy="4700520"/>
        </p:xfrm>
        <a:graphic>
          <a:graphicData uri="http://schemas.openxmlformats.org/drawingml/2006/table">
            <a:tbl>
              <a:tblPr/>
              <a:tblGrid>
                <a:gridCol w="1292400"/>
                <a:gridCol w="4132080"/>
                <a:gridCol w="27115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n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b. de résidents permanents (RP) francophones (hors Québe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de RP francophones vs tous les 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63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63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9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63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63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65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63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(jan.-sept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56772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: Citoyenneté et Immigration Canada,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C078-EEA1-4F9C-BE05-11695BEBC6C8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Nombre d’immigrants économiques d’expression frança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1844640"/>
          <a:ext cx="8136000" cy="4579920"/>
        </p:xfrm>
        <a:graphic>
          <a:graphicData uri="http://schemas.openxmlformats.org/drawingml/2006/table">
            <a:tbl>
              <a:tblPr/>
              <a:tblGrid>
                <a:gridCol w="1292400"/>
                <a:gridCol w="4132080"/>
                <a:gridCol w="271152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n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b. de résidents permanents (RP) économiques francophones (hors Québe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de RP économiques francophones vs tous les RP é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36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(jan.-sept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40248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: Citoyenneté et Immigration Canada,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D228-3B21-484F-ADFF-24CA85B1675B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trée ex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Éléments contextuel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Élimination du financement fédéral qui permettait aux communautés de faire la promotion et du recrutement dans le cadre de Destination Canada (2012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Abolition du programme Avantage significatif francophone, le seul incitatif pour les employeurs en termes de recrutement de travailleurs francophones à l’étranger (septembre 2014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Engagements de CIC qu’Entrée express deviendra un outil par excellence pour augmenter l’immigration francophone (depuis 2012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B883-9C46-48C9-B709-AE813962023C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trée ex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Principales préoccupations soulevées par la FCFA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Inquiétudes quant à la capacité des francophones à s’inscrire dans le bassin d’Entrée expres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Inquiétudes quant à l’absence de mesures pour inciter des employeurs à faire des offres d’emploi à des immigrants francophon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Comment veiller à ce que des candidats francophones dans le bassin soient invités à soumettre une demande de résidence permanen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737D-7E4C-4E17-841D-5180B4467698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trée ex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sta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puis trois ans, la FCFA demande qu’une lentille francophone soit intégrée au système, et de pouvoir collaborer avec le ministère pour l’élaboration de celle-c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système Entrée express a été lancé en janvier 2015 sans lentille francoph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système ne comporte toujours pas à ce jour de mécanisme pour identifier si un candidat est francophone ou n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0482-4CF5-4FF4-827B-1DCA1401B77D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5:42:37Z</dcterms:created>
  <dc:creator>s.quinty</dc:creator>
  <dc:description/>
  <dc:language>en-US</dc:language>
  <cp:lastModifiedBy>Marjie Brown</cp:lastModifiedBy>
  <cp:lastPrinted>2013-04-23T13:36:52Z</cp:lastPrinted>
  <dcterms:modified xsi:type="dcterms:W3CDTF">2015-11-02T14:51:05Z</dcterms:modified>
  <cp:revision>527</cp:revision>
  <dc:subject/>
  <dc:title>Diapositive 1</dc:title>
</cp:coreProperties>
</file>